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breeze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FB9-F07C-46DF-ADCC-739DD70F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7F9-590A-41FC-A021-E6D5A886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5CC-CCA5-4884-8A9B-DC0C3D13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F34-8E6B-46DF-81AA-23C96D14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1227-4861-435C-AE72-BEED4940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4A8B-03C8-429D-B2CF-A708D974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B9A5-79DE-49F0-82CF-962543C9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05E0-8CD0-457D-A99A-6193CF2C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14E4-CCA3-4AFB-A85D-6492ACD6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C906-68D2-41B9-A99F-1A6E23D2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0FFD-E2D1-4C6C-B844-E5788655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12E-F3D4-4DC1-A929-EBB69437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680E-A997-4D40-A6A1-7EB89F7E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09C6-CAF7-456C-9FDE-67F8ADE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B094-1375-4E93-8219-B8F0F708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D334-982A-4879-9D2A-B7725A74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65CC-3D92-42C6-AABC-C6C93028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8423-96B5-4D55-BEEC-2A00CB3D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73BD-1500-48FF-A156-5BA6B33E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2DFCB-B12A-4207-9D0C-5CB4C34B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CDC1-5D39-48F8-A23E-CE8D5701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4D8C-54B6-4C84-A8C1-7B2C5F4D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EC0-7042-4724-954F-40217564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75EF-FA16-451D-9524-A684475E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9C02-EBC7-4EDE-8856-B2409C43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05C12-0D32-4E3A-B3D3-029723AF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8D31-9A27-4321-BB89-A2E6EBA0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C2F6-5B94-4B10-8EEB-CB441E24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05425-988D-4061-951D-358FC9C0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26AF-BC0B-49C8-8FCA-3582191E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CAD98-215E-4054-80C9-E5CFB174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C29E-DD4E-4398-AB80-7DEBA34B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322E-874C-42B5-A342-4D68E9A4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902-B570-4662-A24F-84A24483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DD20A-2876-4BB0-B490-7A9BEF1E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18252-955E-4BB4-A5F7-14F10498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F636-90F9-41EB-8D8A-93E26C99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954DE-07A2-45C1-BE51-F354AF1D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B24E2-74B6-42A8-B888-E6D5E5D9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A51DF-5861-4A97-9568-A6F77E3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6CB41-B16D-46A2-85D8-4FB2356D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946C2-5DA2-417E-8AF4-EBB1BB6E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DE86D-E4EB-47F3-9E8D-42487E7B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43019-FE68-44C4-8749-9FA6FC48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894-9EDA-43A2-BB77-57E5D289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6FA69-CFBC-47BB-8447-A50DDA0E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B62EB-6B1D-422C-874B-2C9A14F2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DC24-9508-4518-8F2D-6C47B701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FB2E6-4823-4A0D-8627-40AF834A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B73E9-EFE4-4F68-AACE-31C7BF61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30BC5-A740-4C6B-B643-64C36DED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D3D8D-E2B2-405F-AAE8-249C952D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A9895-7554-4245-9C2F-EA2E676B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17250-B214-49EA-A447-04E9424B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66CA2-D16C-4941-957E-7D9F20F3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5EC-9A5A-48F4-A1CD-2E48ACBB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A1751-AFBD-4B2F-8646-64DE4878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7D56F-C3D1-4BB7-979D-BFA66F18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98119-79B3-4381-AE39-763929B7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D8E3C-87C7-45AD-B7FF-E929F152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99561-EBA7-4F4D-B60C-57AAC263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6C6EA-24B3-4A58-A3F9-00E60FEC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0ABA1-6462-470B-877B-8F9CB38C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2F622-50D6-4879-AC5E-4D6FCCD0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8D492-2745-457F-920A-258BC5C0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F4130-09F9-4414-928A-650F79C6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78E-A026-4A2A-B2D6-0944FDE3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79277-E918-40AA-B17D-619739C7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AE89E-798F-4FBB-A192-552F9AD7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FFB28-BDE1-42BE-AB76-D4730F44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851BD-86AB-4EC5-A757-1AA6554A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1E370-4B85-477F-A64E-20A3DD3F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35357-51ED-48F6-A497-138F9E32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5A25D-68E6-4227-977A-1180701E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1BE7E-937B-4EFD-AE93-41CA009D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77FCF-2914-42E4-B1EA-38F6EE49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8B5D5-9218-4FC7-AB4A-9BEA9F89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4F8-2C6C-4CCA-AB3E-B0D14EDD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30802-D995-490F-99B3-CFF8BA91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1DDC-4F92-45EE-8FD2-4F6F758C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A046A-BF69-4258-BCCC-16C7E551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E80C8-3923-4F28-BBC6-284C847A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B4ADC-25D0-49E8-9B93-BA0DE876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687-D5B0-4EA6-A8BF-284E71A6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E254-4124-4788-B15F-E4EC89DF0FB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92BA-BDDC-475E-A0E6-94A339D2551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78DB-F222-4884-9F76-5158B79A7ED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D229-424F-4BB9-9E6E-DC3C4A78C2C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9FD9-A378-493E-9242-D6AE70DE217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9F22-9337-4C0D-962B-3D7DFE7AC11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A1E1-A28D-4C73-AB11-72B9624BA2D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rett Gleas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  <p:sndAc>
      <p:stSnd>
        <p:snd r:embed="rId2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asic Fac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was born on May 10,1838 and died on April 26,1865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  <p:sndAc>
      <p:stSnd>
        <p:snd r:embed="rId1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duc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attended Bandera school in Texas hill country, he was educated in the classic and particular  Shakespeare school as a chil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attended college/university when I was older.  I did not attend any collag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  <p:sndAc>
      <p:stSnd>
        <p:snd r:embed="rId1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ccomplishme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y greatest accomplishment, or what I was mostly known for is I assassinated Abraham Lincol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other important accomplishment was I was also a stage actor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third important accomplishment was I was a part of a conspiracy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  <p:sndAc>
      <p:stSnd>
        <p:snd r:embed="rId1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 AM… John Wilkes Booth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7" name="Picture 5" descr="http://www.eyewitnesstohistory.com/images/bo01.jpg"/>
          <p:cNvPicPr/>
          <p:nvPr/>
        </p:nvPicPr>
        <p:blipFill>
          <a:blip r:embed="rId1"/>
          <a:stretch/>
        </p:blipFill>
        <p:spPr>
          <a:xfrm>
            <a:off x="3816360" y="2774880"/>
            <a:ext cx="19684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reez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54:38Z</dcterms:created>
  <dc:creator> </dc:creator>
  <dc:description/>
  <dc:language>en-US</dc:language>
  <cp:lastModifiedBy> </cp:lastModifiedBy>
  <dcterms:modified xsi:type="dcterms:W3CDTF">2009-02-06T17:57:21Z</dcterms:modified>
  <cp:revision>15</cp:revision>
  <dc:subject/>
  <dc:title>Who Am I?</dc:title>
</cp:coreProperties>
</file>